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3C847-EDDF-4228-979D-6A5390156D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62080" y="679320"/>
            <a:ext cx="4533840" cy="3400560"/>
          </a:xfrm>
          <a:prstGeom prst="rect">
            <a:avLst/>
          </a:prstGeom>
          <a:ln w="0">
            <a:noFill/>
          </a:ln>
        </p:spPr>
      </p:sp>
      <p:sp>
        <p:nvSpPr>
          <p:cNvPr id="74"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PORQUÉ NECESITAMOS ADMINISTRAR EL TIEMPO?</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	</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Vivimos muy ocupadas.  A pesar de todas las cosas diseñadas para facilitar nuestras vidas; micro ondas, cocinas que cocinan y refrigeran, máquinas de lavar que lavan y secan, nuestras vidas están más ocupadas que nunca. La mayoría de nosotras corremos con más cosas para hacer en nuestra lista, que el tiempo que disponemos para completarlas a todas.</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Muchas líderes de los Ministerios de la Mujer tienen una familia de la cual ocuparse, a menudo trabajan tiempo completo o parcial, y están involucradas con responsabilidades de la iglesia. Incluidas en estas responsabilidades están los Ministerios de la Mujer.</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ómo cumplir con todo? Con la fuerza de Dios.</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Dios no desea que vivamos trabajando de más y sobrecargadas.  El prometió que nos daría descanso. Dios espera que hagamos solamente lo que él nos llama a hacer y que dejemos de lado lo demás.</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Con Dios como nuestro administrador del tiempo, nuestras vidas pueden ser diferentes. Sí, todavía serán ocupadas. Sí, todavía tendremos días cuando nos preguntaremos si podremos hacer todo lo que necesitamos. Y habrán días cuando las cosas quedarán si hacerse. Pero permitiendo que Dios esté al control de nuestros calendarios y compromisos, experimentaremos la libertad de confiar en él y de que se lleve a cabo a través de nosotras lo que él desea. </a:t>
            </a:r>
            <a:endParaRPr b="0" lang="en-US" sz="1000" spc="-1" strike="noStrike">
              <a:solidFill>
                <a:srgbClr val="000000"/>
              </a:solidFill>
              <a:latin typeface="Arial"/>
            </a:endParaRPr>
          </a:p>
          <a:p>
            <a:pPr marL="30492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Las investigaciones han mostrado que la gente que trabaja en forma organizada y calma, puede lograr más que aquellos que están constantemente corriendo con su agenda en el intento de efectuar demasiado. La gente apurada es menos creativa, menos efectiva, y por último menos saludable;  ¡física, mental y espiritualmente! Una correcta administración del tiempo es valiosa para todas. La puede ayudar a lograr más en la misma o menor cantidad de tiempo que si estuviera apurándose. Puede ayudarla a ser más efectiva y a reducir la cantidad de estrés en su vida. Contando con Dios como parte del equipo en su administración del tiempo, podrá lograr los asuntos más importantes de su agenda.</a:t>
            </a: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62080" y="679320"/>
            <a:ext cx="4533840" cy="3400560"/>
          </a:xfrm>
          <a:prstGeom prst="rect">
            <a:avLst/>
          </a:prstGeom>
          <a:ln w="0">
            <a:noFill/>
          </a:ln>
        </p:spPr>
      </p:sp>
      <p:sp>
        <p:nvSpPr>
          <p:cNvPr id="88"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V. </a:t>
            </a:r>
            <a:r>
              <a:rPr b="1" lang="es-AR" sz="1000" spc="-1" strike="noStrike">
                <a:solidFill>
                  <a:srgbClr val="000000"/>
                </a:solidFill>
                <a:latin typeface="Arial"/>
              </a:rPr>
              <a:t>ADMINISTRACIÓN DE REUNIONES (RP-7)</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Para hacer más efectivas las reuniones que está planificando, recuerde los pasos para organizar su dí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Primero, ore acerca de la agenda. </a:t>
            </a:r>
            <a:r>
              <a:rPr b="0" lang="es-AR" sz="1000" spc="-1" strike="noStrike">
                <a:solidFill>
                  <a:srgbClr val="000000"/>
                </a:solidFill>
                <a:latin typeface="Arial"/>
              </a:rPr>
              <a:t>Si es posible, ore para comenzar la reunión. Pídale a Dios que la guíe y le de sabiduría. Busque la voluntad de Dios. Demasiadas veces en las reuniones, aún con iglesias y ministros, intentamos llevar a cabo las actividades, olvidando totalmente de buscar la intervención de Dios en lo que él desea que hagamo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Priorice su agenda. </a:t>
            </a:r>
            <a:r>
              <a:rPr b="0" lang="es-AR" sz="1000" spc="-1" strike="noStrike">
                <a:solidFill>
                  <a:srgbClr val="000000"/>
                </a:solidFill>
                <a:latin typeface="Arial"/>
              </a:rPr>
              <a:t>Comience con los puntos más importantes. De esa manera le concederá las mejores energías a lo más importante. Si la reunión necesita terminar a cierta hora, se habrán tratado los asuntos más importante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Recuerde su misión y propósito. </a:t>
            </a:r>
            <a:r>
              <a:rPr b="0" lang="es-AR" sz="1000" spc="-1" strike="noStrike">
                <a:solidFill>
                  <a:srgbClr val="000000"/>
                </a:solidFill>
                <a:latin typeface="Arial"/>
              </a:rPr>
              <a:t>¿Cuál es el propósito de su reunión? No se deje atrapar por lo trivial. Asegúrese de que lo que usted hace; aún en sus reuniones, está acorde con su misión y propósito. (Podemos dedicar un montón de tiempo a discutir cómo decorar un evento de los MM y pasar por alto el dedicar más tiempo a comentar formas de llevar a las mujeres a Cristo lo cual es realmente el propósit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Distribuya su agenda unos pocos días antes de la reunión. </a:t>
            </a:r>
            <a:r>
              <a:rPr b="0" lang="es-AR" sz="1000" spc="-1" strike="noStrike">
                <a:solidFill>
                  <a:srgbClr val="000000"/>
                </a:solidFill>
                <a:latin typeface="Arial"/>
              </a:rPr>
              <a:t>Esto le dará tiempo a la gente para pensar acerca de los asuntos que se van a discutir.</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Permita que otros contribuyan a su agenda.</a:t>
            </a:r>
            <a:r>
              <a:rPr b="0" lang="es-AR" sz="1000" spc="-1" strike="noStrike">
                <a:solidFill>
                  <a:srgbClr val="000000"/>
                </a:solidFill>
                <a:latin typeface="Arial"/>
              </a:rPr>
              <a:t> De la posibilidad a líderes y a aquellos que dirigen comisiones que añadan puntos de agenda. Esto se puede llevar a cabo de diferentes formas:</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Establezca un vencimiento para añadir puntos de agenda. Asegúrese de que la gente sepa cómo contactarse con usted; ya sea por teléfono, correo electrónico, o alcanzándole un papel.</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Permita que se añadan puntos de agenda al comienzo de la reunión. La desventaja de esto es que puede extenderse la reunión, podría recibir sorpresas que no esperaba; y no dará tiempo suficiente para que los miembros de la comisión oren y piensen de antemano acerca del tema.</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Automáticamente añada cada departamento o comisión a su agenda para que puedan dar un informe de lo que están haciendo.</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Comience y termine la reunión a tiempo. </a:t>
            </a:r>
            <a:r>
              <a:rPr b="0" lang="es-AR" sz="1000" spc="-1" strike="noStrike">
                <a:solidFill>
                  <a:srgbClr val="000000"/>
                </a:solidFill>
                <a:latin typeface="Arial"/>
              </a:rPr>
              <a:t>Es muy importante comenzar y terminar sus reuniones en el horario establecido. Si continúa con la reunión, pero anuncia con anticipación cuánto durará la reunión, permitirá que la gente pueda planificar mejor sus horarios.  Esto se aplica a todas las reuniones y programas de los cuales es responsable.</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Establezca límites de tiempo para las discusiones.</a:t>
            </a:r>
            <a:r>
              <a:rPr b="0" lang="es-AR" sz="1000" spc="-1" strike="noStrike">
                <a:solidFill>
                  <a:srgbClr val="000000"/>
                </a:solidFill>
                <a:latin typeface="Arial"/>
              </a:rPr>
              <a:t> Sería bueno planificar por anticipado cuánto tiempo se dedicará a cada punto de la agenda, como también quién guiará los debates o explicará las propuestas. Si se traban en un asunto, dediquen tiempo a orar; pidiendo a Dios que los guíe y les de unidad. Si todavía no pueden hacer una decisión, o llegar a un acuerdo sobre cierto punto, lleven a tablas la discusión para la próxima reunión, permitiendo que todos tengan más tiempo para orar y pensar acerca del asunto.</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62080" y="679320"/>
            <a:ext cx="4533840" cy="3400560"/>
          </a:xfrm>
          <a:prstGeom prst="rect">
            <a:avLst/>
          </a:prstGeom>
          <a:ln w="0">
            <a:noFill/>
          </a:ln>
        </p:spPr>
      </p:sp>
      <p:sp>
        <p:nvSpPr>
          <p:cNvPr id="90"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Manténgase en la agenda. </a:t>
            </a:r>
            <a:r>
              <a:rPr b="0" lang="es-AR" sz="1200" spc="-1" strike="noStrike">
                <a:solidFill>
                  <a:srgbClr val="000000"/>
                </a:solidFill>
                <a:latin typeface="Arial"/>
              </a:rPr>
              <a:t>Es fácil salirse de tema o desviarse del asunto que están tratando. Manténgase dentro del orden y horario asignados. Permanezca firme con la agenda para ganar el respeto como presidente productiva de su comis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na agenda modelo podría ser así: </a:t>
            </a:r>
            <a:r>
              <a:rPr b="1" lang="es-AR" sz="1200" spc="-1" strike="noStrike">
                <a:solidFill>
                  <a:srgbClr val="000000"/>
                </a:solidFill>
                <a:latin typeface="Arial"/>
              </a:rPr>
              <a:t>(RP-8) (Ver PowerPoin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2054160" y="679320"/>
            <a:ext cx="2563920" cy="1922760"/>
          </a:xfrm>
          <a:prstGeom prst="rect">
            <a:avLst/>
          </a:prstGeom>
          <a:ln w="0">
            <a:noFill/>
          </a:ln>
        </p:spPr>
      </p:sp>
      <p:sp>
        <p:nvSpPr>
          <p:cNvPr id="92" name="PlaceHolder 2"/>
          <p:cNvSpPr>
            <a:spLocks noGrp="1"/>
          </p:cNvSpPr>
          <p:nvPr>
            <p:ph type="body"/>
          </p:nvPr>
        </p:nvSpPr>
        <p:spPr>
          <a:xfrm>
            <a:off x="685800" y="2601720"/>
            <a:ext cx="5486400" cy="57862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urante la reunión, asigne a alguien para que tome notas acerca de las decisiones que se toman, acciones a realizar, necesidad de seguimiento, etc. Se las puede escribir en forma de minutas o como Hoja de acciones: </a:t>
            </a:r>
            <a:r>
              <a:rPr b="1" lang="es-AR" sz="1200" spc="-1" strike="noStrike">
                <a:solidFill>
                  <a:srgbClr val="000000"/>
                </a:solidFill>
                <a:latin typeface="Arial"/>
              </a:rPr>
              <a:t>(RP-9) (Ver PowerPo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VI.  ADMINISTRACIÓN DE PROYEC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uestras vidas serían más manejables si hiciéramos solo una cosa al mismo tiempo, trabajar solamente en un proyecto a la vez. Si la realidad de nuestras vidas es que siempre seremos multifacéticos y que tendremos que manejar varios proyectos al mismo tiempo. ¿Cómo podemos controlar todo lo que se necesita hacer para los múltiples proyectos y mantenernos al día con los detalles de cada uno al mismo tiemp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ueden servir muchas de las herramientas que hemos mencionado anteriorm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un cronograma en su agenda, de todos los detalles y cosas que necesitan hacerse así como los vencimientos. Establezca un cronograma de trabajo para cada punto. Al tenerlos en su agenda no solamente podrá recordarlo, sino la ayudará a establecer tiempo para trabajar en cada proyec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una lista de todo lo que necesita hacer para cada proyecto. Esté segura de incluir todos los detalles, llamadas telefónicas, cartas que se deben enviar etc. Si delega parte de este proyecto, incluya horarios para contactarse con las personas trabajando en el proyecto para que se pongan en contacto con “la b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rabajando en retroceso con los vencimientos, registre los detalles en su agen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or ejemplo, digamos que está planificando un té para las mujeres de su comunidad e iglesia.  ¿Qué tareas se deben llevar a cabo?  Haga una list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servar el uso del salón de sociales de la iglesia u otro loc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blar con la comisión de decoración para pedir ideas para el even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propaganda para el evento en el boletín de la igle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propaganda para el evento en el diario lo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viar invitaciones a miembros que no están asistiendo a la igles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r con invitaciones adicionales para que los miembros de iglesia puedan hacer invitaciones persona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tactar y concretar la fecha con su orado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mprar un regalo para la orado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sultar con el tesorero por los gastos del even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lanifique el menú con aquellas que estarán a cargo de la com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mprar la mercadería necesa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arreglos para tener música espe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Imprimir un progra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cer arreglos para una corta lectura inspiradora al comienzo del prog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edir a alguien que se encargue de hacer la oración al comienzo de la comid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er a mano un folleto informativo de las reuniones y actividades de la iglesia para repartir a las invitadas al finalizar el progra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seguir suficiente loza para la cantidad de gente que se esp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u lista podría incluir mayor o menor cantidad de incis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 continuación, tomando su lista, comience a ponerle fecha a cada punto en su agenda. Si el evento está planificado para el 20 de mayo, sería bueno enviar las invitaciones por correo unas dos semanas antes. Entonces escriba ese detalle en el casillero correspondiente al 6 de mayo. Sería bueno comenzar a hacer la propaganda tres semanas antes, así que haga una nota para contactarse con la secretaria encargada del boletín y escriba un artículo para el diario local el 29 de abril. Una semana antes del evento, reserve tiempo pa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mprar un regalo para la oradora y para llamar al tesorero para hacer los arreglos necesarios. Un mes antes del evento, reserve tiempo para reunirse con las comisiones para comenzar a trabajar en los diferentes aspectos del evento: decoración, comida, programa.  Anótese un horario para hablar con cada persona a cargo de cualquier detalle; una semana antes del evento, pa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visar que todo esté marchando en ord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 repartir el proyecto en pequeñas tareas para realizar y al tener un cronograma en su agenda, cada proyecto marchará como sobre rieles y usted no necesitará estresarse por temor a olvidar algo importante, o por tener demasiado para hacer al mismo tiempo. Al establecer un cronograma de trabajo, puede equilibrar la cantidad de trabajo que necesitará realizar cada dí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cuerde delegar tanto como sea posible. Ore sobre cada detalle de su evento. Con la ayuda de Dios y de un buen equipo, se sorprenderá de cómo funcionarán las cosas a pesar de la cantidad de actividades involucradas en el proyecto.</a:t>
            </a:r>
            <a:r>
              <a:rPr b="0" lang="es-ES" sz="1200" spc="-1" strike="noStrike">
                <a:solidFill>
                  <a:srgbClr val="000000"/>
                </a:solidFill>
                <a:latin typeface="Arial"/>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257480" y="679320"/>
            <a:ext cx="4344840" cy="3259440"/>
          </a:xfrm>
          <a:prstGeom prst="rect">
            <a:avLst/>
          </a:prstGeom>
          <a:ln w="0">
            <a:noFill/>
          </a:ln>
        </p:spPr>
      </p:sp>
      <p:sp>
        <p:nvSpPr>
          <p:cNvPr id="94" name="PlaceHolder 2"/>
          <p:cNvSpPr>
            <a:spLocks noGrp="1"/>
          </p:cNvSpPr>
          <p:nvPr>
            <p:ph type="body"/>
          </p:nvPr>
        </p:nvSpPr>
        <p:spPr>
          <a:xfrm>
            <a:off x="685800" y="4087800"/>
            <a:ext cx="5486400" cy="43005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VII. ADMINISTRACIÓN DE “USTED MISMA” (RP-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orque nuestros horarios están tan ocupados, hay cosas que van quedando de lado, sin hacerse. Cosas buenas. Pero no tenemos suficiente espacio en nuestro día para todas las cosas. Desafortunadamente, demasiado a menudo, lo que queda sin hacerse, es el tiempo que necesitamos para cuidarnos a nosotras mismas, tiempo para nuestras familias y amigas, tiempo para recrearnos. Estamos tan ocupadas trabajando; que olvidamos la importancia de relajarnos, de la gente, de divertirnos. Eso no es lo que desea el Señor. Él no nos creó para que fuéramos trabajadoras compulsivas. Nos creo para ser gente. El ministerio de Jesús duró solamente tres años. Se hubiera podido hacer más. Pero Cristo siempre dedicó tiempo para orar y para estar con la gente. A menudo se apartaba para renovarse y relacionarse con su Padre; dejando un ejemplo para nosot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ecesitamos incluir tiempo en nuestros horarios para cuidar de nuestros cuerpos, nuestras amistades, y nuestra vida espiritu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er buena salud es importante. No solamente nos ayudará a vivir vidas más largas, sino que nos ayudará a ser más productivas también. Comer alimentos saludables, hacer ejercicio, beber mucha agua, dormir suficiente, y respirar aire puro, nos ayudará a sentirnos mejor, a tener más claridad de pensamiento y nos dará más energía para concentrarnos. Pero demasiado a menudo, en nuestras vidas ocupadas, comemos lo que tenemos a mano, no hacemos ejercicio, tomamos una bebida cargada de azúcar en lugar de agua, tomamos aire fresco solamente cuando corremos hasta el auto para concurrir a una cita y dejamos lugar a muy poco descanso. Creemos que dedicar tiempo para hacer ejercicio, dormir, y comer saludable, nos llevará demasiado tiempo. ¡Falso! Hacer estas cosas, en realidad nos ayudará a ser más productiv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ara vivir una vida saludable, necesitamos hacer una planificación previ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imero, establezca un horario para hacer ejercicio varias veces a la semana, preferentemente sobre una base diaria. ¿Cómo añadir otra cosa a una agenda que ya está totalmente llena? Combine actividades. Salga a dar una caminata ágil mientras ora. Haga ejercicio utilizando una cinta mecánica mientras mira el informativo en la televisión. Haga pequeñas dosis de ejercicio, subiendo las escaleras en lugar de utilizar el ascensor, estacione el auto lo más lejos que pueda del edificio así podrá tomar una caminata rápida alrededor de la manzana durante la hora del almuerzo (solamente guarde un par de zapatillas o zapatos cómodos en un cajón de su escritorio), o de una caminata con su esposo o una amiga al regresar del trabajo; utilizando el tiempo para conversar mientras hacen ejercicio y obtienen aire fres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el compromiso de ir a la cama temprano. Si no ha terminado sus tareas para las 9:00 de la noche, entonces asígneles un nuevo horario para el día siguiente y vaya a la cama. Tendrá más energía y claridad de pensamiento si duerme suficiente. </a:t>
            </a:r>
            <a:r>
              <a:rPr b="0" i="1" lang="es-AR" sz="1200" spc="-1" strike="noStrike">
                <a:solidFill>
                  <a:srgbClr val="000000"/>
                </a:solidFill>
                <a:latin typeface="Arial"/>
              </a:rPr>
              <a:t>La Nacional Sleep Foundation (Fundación Nacional del sueño) </a:t>
            </a:r>
            <a:r>
              <a:rPr b="0" lang="es-AR" sz="1200" spc="-1" strike="noStrike">
                <a:solidFill>
                  <a:srgbClr val="000000"/>
                </a:solidFill>
                <a:latin typeface="Arial"/>
              </a:rPr>
              <a:t>calcula que un cuarto de la población adulta en Estados Unidos no duerme suficiente. La falta de sueño puede interferir con la memoria, los niveles de energía, las habilidades mentales, y los estados de ánimo emocionales (trayendo como consecuencia que estemos irritables o enojadas.)También debilita nuestro sistema inmunológico haciéndonos más susceptibles a las enfermedades y desórdenes que van desde la diabetes y el cáncer hasta una gripe común. Afecta ambas, nuestra salud mental y física. El adulto promedio necesita de seis a nueve horas de sueño. Tener un horario regular para ir a dormir y para levantarnos nos ayudará a sentirnos más alertas, a tener un estado de ánimo más placentero y a mantenernos con salud. Podrá significar cortar con actividades o programas de TV, pero vale la pena el esfuerz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No olvide la importancia de una alimentación saludable. Los estudios han mostrado que una dieta pesada en azúcar refinada y grasa no solamente lleva a correr riesgos en la salud, sino que causa más cansancio y languide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on todo, muchos de nosotros comemos a las corridas, cualquier cosa que encontramos al paso. Comemos muchas de las comidas en el auto mientras manejamos para ir a otra cita o haciendo algún mandado. Comer alimentos saludables no debe ser una carga en nuestros horarios; pero puede requerir una planificación previa. Compre alimentos y meriendas sanas cuando salga de compras. Téngalos a mano y listos para llevar. Palitos de zanahoria y apio, manteca de maní y manzanas, ensaladas, pancitos integrales, nueces y otras frutas, son todas alternativas saludables para reemplazar masas dulces, o comidas de quiosco. Lleve una botella de agua en su auto y mantenga otra en su escritorio. Esto no solo le ayudará a recordar que debe tomar mucha agua, sino que quitará la tentación de tomar bebidas gasificad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blezca un horario para comer con su familia. Siéntense juntos a disfrutar de una comida saludable. (Se consiguen libros con recetas saludables que se pueden preparar en media hora.) No solo beneficiará su salud física, sino que la ayudará a mantener una relación saludable con su familia tambié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62080" y="679320"/>
            <a:ext cx="4533840" cy="3400560"/>
          </a:xfrm>
          <a:prstGeom prst="rect">
            <a:avLst/>
          </a:prstGeom>
          <a:ln w="0">
            <a:noFill/>
          </a:ln>
        </p:spPr>
      </p:sp>
      <p:sp>
        <p:nvSpPr>
          <p:cNvPr id="76"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CÓMO APRENDER A MANEJAR NUESTRO TIEMPO? (RP-1)</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imero, ore. La clave más importante para la administración del tiempo es orar. </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t>
            </a:r>
            <a:r>
              <a:rPr b="0" lang="es-AR" sz="1200" spc="-1" strike="noStrike">
                <a:solidFill>
                  <a:srgbClr val="000000"/>
                </a:solidFill>
                <a:latin typeface="Arial"/>
              </a:rPr>
              <a:t>¿Añadir otro punto a mi lista que ya está demasiado llena?” podría estar preguntando. Un libro en particular, que trata sobre la oración y administración del tiempo, lo resume en su título, </a:t>
            </a:r>
            <a:r>
              <a:rPr b="0" i="1" lang="es-AR" sz="1200" spc="-1" strike="noStrike">
                <a:solidFill>
                  <a:srgbClr val="000000"/>
                </a:solidFill>
                <a:latin typeface="Arial"/>
              </a:rPr>
              <a:t>Demasiado ocupado como para no orar</a:t>
            </a:r>
            <a:r>
              <a:rPr b="0" lang="es-AR" sz="1200" spc="-1" strike="noStrike">
                <a:solidFill>
                  <a:srgbClr val="000000"/>
                </a:solidFill>
                <a:latin typeface="Arial"/>
              </a:rPr>
              <a:t>. La oración es esencial para ordenar  nuestras vidas  y permitirle a Dios que nos dirija en nuestros horarios y compromiso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esente su horario a Dio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1" i="1" lang="es-AR" sz="1200" spc="-1" strike="noStrike">
                <a:solidFill>
                  <a:srgbClr val="000000"/>
                </a:solidFill>
                <a:latin typeface="Arial"/>
              </a:rPr>
              <a:t>Enséñanos de tal modo a contar nuestros días, </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1200" spc="-1" strike="noStrike">
                <a:solidFill>
                  <a:srgbClr val="000000"/>
                </a:solidFill>
                <a:latin typeface="Arial"/>
              </a:rPr>
              <a:t>	</a:t>
            </a:r>
            <a:r>
              <a:rPr b="1" i="1" lang="es-AR" sz="1200" spc="-1" strike="noStrike">
                <a:solidFill>
                  <a:srgbClr val="000000"/>
                </a:solidFill>
                <a:latin typeface="Arial"/>
              </a:rPr>
              <a:t>Que traigamos al corazón sabiduría. </a:t>
            </a:r>
            <a:r>
              <a:rPr b="0" lang="es-AR" sz="1200" spc="-1" strike="noStrike">
                <a:solidFill>
                  <a:srgbClr val="000000"/>
                </a:solidFill>
                <a:latin typeface="Arial"/>
              </a:rPr>
              <a:t>– Sal. 90:12</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ntréguele a Dios su horario, sus responsabilidades, sus compromisos. Pídale que la ayude a conocer su voluntad, a establecer sus prioridades, a decir que no a las cosas que; aunque sean buenas, no son parte de su plan para usted.  </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Recuerde que a todos se nos dan 24 horas cada día. Dios desea que las utilicemos en forma efectiva.</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stablezca prioridades y meta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1" i="1" lang="es-AR" sz="1200" spc="-1" strike="noStrike">
                <a:solidFill>
                  <a:srgbClr val="000000"/>
                </a:solidFill>
                <a:latin typeface="Arial"/>
              </a:rPr>
              <a:t>Haga primero las cosas importantes. Preste atención inmediata y mayor a las tareas más importantes.</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	</a:t>
            </a:r>
            <a:r>
              <a:rPr b="0" lang="es-AR" sz="1200" spc="-1" strike="noStrike">
                <a:solidFill>
                  <a:srgbClr val="000000"/>
                </a:solidFill>
                <a:latin typeface="Arial"/>
              </a:rPr>
              <a:t>Executive Essentials, Mitchell J Posner</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una lista de todos sus roles.  Mujer, esposa, mamá, hija, empleada, amiga, miembro de iglesia, líder de los Ministerios de la Mujer. A continuación, ordene estos roles de acuerdo a sus prioridades. Pídale a Dios que la guíe. ¿Cuáles son las cosas más importantes que Dios la ha llamado a hacer? Muchas veces nuestros horarios no reflejan lo que hemos decidido que son las prioridades en nuestras vidas. Al contrario, nuestros días están demasiado a menudo llenos con lo “urgente” mientras aquellos roles y responsabilidades que son las más importantes, quedan de lado. Eso no es lo que deseamos, eso no es lo que Dios desea.</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Determine sus metas. ¿Cuál es su propósito? Sería bueno considerar sus metas para cada uno de sus roles. ¿Qué desea lograr como mujer? Si está casada, ser un apoyo para su esposo. Animándolo en sus roles diarios. Ayudándolo a desarrollar su relación con sus hijos. ¿Cuál es su blanco como líder de los Ministerios de la Mujer? ¿Qué desea lograr a través de su ministerio?</a:t>
            </a:r>
            <a:endParaRPr b="0" lang="en-US" sz="1200" spc="-1" strike="noStrike">
              <a:solidFill>
                <a:srgbClr val="000000"/>
              </a:solidFill>
              <a:latin typeface="Arial"/>
            </a:endParaRPr>
          </a:p>
          <a:p>
            <a:pPr marL="304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ga el mismo procedimiento con cada uno de sus roles.  Con cada programa, evento, o recurso que está planificando, determine cuál es el propósito del proyecto. ¿Qué desea lograr a través de esto? ¿Cuál es la misión del proyecto? Observar cada proyecto a través de las metas que esperamos lograr, nos ayudará a permanecer enfocadas, y a no distraernos con detalles innecesario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62080" y="679320"/>
            <a:ext cx="4533840" cy="3400560"/>
          </a:xfrm>
          <a:prstGeom prst="rect">
            <a:avLst/>
          </a:prstGeom>
          <a:ln w="0">
            <a:noFill/>
          </a:ln>
        </p:spPr>
      </p:sp>
      <p:sp>
        <p:nvSpPr>
          <p:cNvPr id="78"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PLANIFICACIÓN DIARIA (RP-2)</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Ore por su horario cada día. Permita que Dios le muestre lo que necesita ser hecho hoy  y qué es lo que puede dejar para otro día. Entréguele sus planes; ¿Qué hacer y que lograr hoy? ¿Qué ha planificado hacer? Entrégueselo a él y pregúntele qué desea que haga. Confíe que él hará lo más importante y no se mortifique por cosas que queden sin hacer. Cuando le entrega a él su horario, deja la responsabilidad en sus manos. Las </a:t>
            </a:r>
            <a:r>
              <a:rPr b="1" lang="es-AR" sz="1200" spc="-1" strike="noStrike">
                <a:solidFill>
                  <a:srgbClr val="000000"/>
                </a:solidFill>
                <a:latin typeface="Arial"/>
              </a:rPr>
              <a:t>tres reglas de oro de la planificación diaria</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1.  Haga una lista de cosas para hacer hoy.</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2.  Establezca prioridades y trabaje en lo más importante.</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3.  Haga esto cada día.</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demás de la lista de cosas para hacer, otras listas pueden ser de mucha ayuda. Estas son las listas continuas de ideas, tareas, llamadas telefónicas, mandados, asuntos de agenda, notas de informe y otros trabajos para hacer. Añádalas a su lista a medida que van apareciendo. Crúcelas a medida que las realice. Tome nota de vencimientos de cosas que necesitan ser terminadas. Inclúyalas en su planificador diario. </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lgunas sugerencias rápidas para planificar:</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ga una libreta para escribir al lado de su cama; si se despierta con una idea, escríbala. Esto no solo mantendrá un registro de sus ideas, sino que es muy bueno para reducir el estrés. Una vez escrito en su libreta, su cerebro puede desconectarse otra vez y podrá dormir más fácil.</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Tenga su libreta mientras viaja (o una grabadora) para hacer lo mismo mientras maneja.</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tilice los momentos de espera, llevando algo útil para leer o proyectos en los cuales trabajar. Estas son grandes oportunidades de ponerse al día con su calendario.</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umpla con su cronograma</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unque es importante ser flexible, también es muy importante cumplir con sus compromisos.</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ha planificado una cita para las 2:00, asegúrese de que esté allí a las  2:00. Si algo la detiene y no le será posible llegar a tiempo, contáctese con la persona con la cual se reunirá y hágale saber que llegará tarde. Ofrezca reacomodar el horario para su comodidad si es necesario. </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usted ha establecido el horario de comienzo de una comisión para las 13:00, comience a las 13:00, no importa si todos han llegado o no. De esta manera les enseñaremos a otros a ser puntuales, también, o sino se la perderán.</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i su programa debe comenzar a cierta hora, comience a tiempo.</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Muchas veces podemos ser despreocupadas acerca de la puntualidad. Pero si no somos puntuales para nuestras citas, comienzos de eventos o reuniones, no solamente que no respetamos nuestros horarios, sino los horarios de los demás también. Hacer las cosas a tiempo causará menos estrés a nuestras vidas y mostrará que valoramos a los que nos rodean. </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200" spc="-1" strike="noStrike">
                <a:solidFill>
                  <a:srgbClr val="000000"/>
                </a:solidFill>
                <a:latin typeface="Arial"/>
              </a:rPr>
              <a:t>Una agenda bien llevada, dada la naturaleza de la vida y el tiempo, no es otra cosa, sino sistematización y prolijidad. Llena de planes tentativos, planes revisados, tachaduras, ideas garrapateadas y asuntos recordados repentinamente. El único sistema de agenda digno de tener, posee simplicidad y flexibilidad; aún entonces, no será más que una herramienta para la administración del tiempo. Más importante por lejos es la actitud realista para planificar...</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1200" spc="-1" strike="noStrike">
                <a:solidFill>
                  <a:srgbClr val="000000"/>
                </a:solidFill>
                <a:latin typeface="Arial"/>
              </a:rPr>
              <a:t>	</a:t>
            </a:r>
            <a:r>
              <a:rPr b="0" i="1" lang="es-AR" sz="1200" spc="-1" strike="noStrike">
                <a:solidFill>
                  <a:srgbClr val="000000"/>
                </a:solidFill>
                <a:latin typeface="Arial"/>
              </a:rPr>
              <a:t>Getting Things Done,</a:t>
            </a:r>
            <a:r>
              <a:rPr b="0" lang="es-AR" sz="1200" spc="-1" strike="noStrike">
                <a:solidFill>
                  <a:srgbClr val="000000"/>
                </a:solidFill>
                <a:latin typeface="Arial"/>
              </a:rPr>
              <a:t> Roger Black</a:t>
            </a:r>
            <a:endParaRPr b="0" lang="en-US" sz="1200" spc="-1" strike="noStrike">
              <a:solidFill>
                <a:srgbClr val="000000"/>
              </a:solidFill>
              <a:latin typeface="Arial"/>
            </a:endParaRPr>
          </a:p>
          <a:p>
            <a:pPr lvl="1" marL="76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Aún cuando llegar tarde o comenzar tarde sea socialmente aceptable, podemos asentar un nuevo precedente, llegando a tiempo y comenzando a tiempo.</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62080" y="679320"/>
            <a:ext cx="4533840" cy="3400560"/>
          </a:xfrm>
          <a:prstGeom prst="rect">
            <a:avLst/>
          </a:prstGeom>
          <a:ln w="0">
            <a:noFill/>
          </a:ln>
        </p:spPr>
      </p:sp>
      <p:sp>
        <p:nvSpPr>
          <p:cNvPr id="80"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P-3)</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62080" y="679320"/>
            <a:ext cx="4533840" cy="3400560"/>
          </a:xfrm>
          <a:prstGeom prst="rect">
            <a:avLst/>
          </a:prstGeom>
          <a:ln w="0">
            <a:noFill/>
          </a:ln>
        </p:spPr>
      </p:sp>
      <p:sp>
        <p:nvSpPr>
          <p:cNvPr id="82"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Qué hacer con todos los trabajos en papel que entran a su hogar u oficina? ¿Se encuentra a sí misma cambiándolos de un lugar a otro? ¿O amontonándolos de tal manera que nunca terminará de revisarlos? ¿Cómo podemos manejar la enorme cantidad de papel que invade nuestras vida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62080" y="679320"/>
            <a:ext cx="4533840" cy="3400560"/>
          </a:xfrm>
          <a:prstGeom prst="rect">
            <a:avLst/>
          </a:prstGeom>
          <a:ln w="0">
            <a:noFill/>
          </a:ln>
        </p:spPr>
      </p:sp>
      <p:sp>
        <p:nvSpPr>
          <p:cNvPr id="84"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Clasifique los papeles la primera vez que los tiene en sus manos. (RP-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Arial"/>
              </a:rPr>
              <a:t>Usted puede aprender a “filtrar” su correspondencia. Mire toda la correspondencia; clasifíquela en una de las siguientes cinco categoría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D</a:t>
            </a:r>
            <a:r>
              <a:rPr b="1" lang="es-AR" sz="1000" spc="-1" strike="noStrike">
                <a:solidFill>
                  <a:srgbClr val="000000"/>
                </a:solidFill>
                <a:latin typeface="Arial"/>
              </a:rPr>
              <a:t>	</a:t>
            </a:r>
            <a:r>
              <a:rPr b="1" lang="es-AR" sz="1000" spc="-1" strike="noStrike">
                <a:solidFill>
                  <a:srgbClr val="000000"/>
                </a:solidFill>
                <a:latin typeface="Arial"/>
              </a:rPr>
              <a:t>Delegar; </a:t>
            </a:r>
            <a:r>
              <a:rPr b="0" lang="es-AR" sz="1000" spc="-1" strike="noStrike">
                <a:solidFill>
                  <a:srgbClr val="000000"/>
                </a:solidFill>
                <a:latin typeface="Arial"/>
              </a:rPr>
              <a:t>Esto podría incluir información que debiera delegarse a alguien responsable por esa actividad en particular. O, podría ser algo que usted siente que será de interés para otro colega; enganche una notita y colóquelo en la bandeja de “salidas”. (En casa coloque el material sobre la mesa en el lugar donde se sienta la persona. Esta es una forma fantástica de enseñarles a sus hijos como manejarse con los papeles, tambié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L</a:t>
            </a:r>
            <a:r>
              <a:rPr b="1" lang="es-AR" sz="1000" spc="-1" strike="noStrike">
                <a:solidFill>
                  <a:srgbClr val="000000"/>
                </a:solidFill>
                <a:latin typeface="Arial"/>
              </a:rPr>
              <a:t>	</a:t>
            </a:r>
            <a:r>
              <a:rPr b="1" lang="es-AR" sz="1000" spc="-1" strike="noStrike">
                <a:solidFill>
                  <a:srgbClr val="000000"/>
                </a:solidFill>
                <a:latin typeface="Arial"/>
              </a:rPr>
              <a:t>Lea;  </a:t>
            </a:r>
            <a:r>
              <a:rPr b="0" lang="es-AR" sz="1000" spc="-1" strike="noStrike">
                <a:solidFill>
                  <a:srgbClr val="000000"/>
                </a:solidFill>
                <a:latin typeface="Arial"/>
              </a:rPr>
              <a:t>Tenga un archivo para revistas, artículos, periódicos, artículos, etc. para leer más tarde (resérvelos para los momentos de espera o para leer antes de ir a dormi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A</a:t>
            </a:r>
            <a:r>
              <a:rPr b="1" lang="es-AR" sz="1000" spc="-1" strike="noStrike">
                <a:solidFill>
                  <a:srgbClr val="000000"/>
                </a:solidFill>
                <a:latin typeface="Arial"/>
              </a:rPr>
              <a:t>	</a:t>
            </a:r>
            <a:r>
              <a:rPr b="1" lang="es-AR" sz="1000" spc="-1" strike="noStrike">
                <a:solidFill>
                  <a:srgbClr val="000000"/>
                </a:solidFill>
                <a:latin typeface="Arial"/>
              </a:rPr>
              <a:t>Actúe;  </a:t>
            </a:r>
            <a:r>
              <a:rPr b="0" lang="es-AR" sz="1000" spc="-1" strike="noStrike">
                <a:solidFill>
                  <a:srgbClr val="000000"/>
                </a:solidFill>
                <a:latin typeface="Arial"/>
              </a:rPr>
              <a:t>cuando ha seleccionad toda la correspondencia, revísela y atienda los asuntos que necesitan atención inmediata. Revise cada papel para registrar vencimientos, fechas para llenar formularios, o firmar lo que sea necesario.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A</a:t>
            </a:r>
            <a:r>
              <a:rPr b="1" lang="es-AR" sz="1000" spc="-1" strike="noStrike">
                <a:solidFill>
                  <a:srgbClr val="000000"/>
                </a:solidFill>
                <a:latin typeface="Arial"/>
              </a:rPr>
              <a:t>	</a:t>
            </a:r>
            <a:r>
              <a:rPr b="1" lang="es-AR" sz="1000" spc="-1" strike="noStrike">
                <a:solidFill>
                  <a:srgbClr val="000000"/>
                </a:solidFill>
                <a:latin typeface="Arial"/>
              </a:rPr>
              <a:t>Archive; </a:t>
            </a:r>
            <a:r>
              <a:rPr b="0" lang="es-AR" sz="1000" spc="-1" strike="noStrike">
                <a:solidFill>
                  <a:srgbClr val="000000"/>
                </a:solidFill>
                <a:latin typeface="Arial"/>
              </a:rPr>
              <a:t>una encuesta reciente concluyó que el 75% de todos los papeles de trabajo que archivamos no lo volveremos a mirar hasta que hacemos limpieza de nuestro archivo. Entonces considere cuidadosamente si necesitará el material. (Los que realmente requieren ser archivados son: documentos de compañías o reglamentos gubernamentales, legislaciones, correspondencia que conlleva implicaciones a largo plazo, etc.)</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000" spc="-1" strike="noStrike">
                <a:solidFill>
                  <a:srgbClr val="000000"/>
                </a:solidFill>
                <a:latin typeface="Arial"/>
              </a:rPr>
              <a:t>T</a:t>
            </a:r>
            <a:r>
              <a:rPr b="1" lang="es-AR" sz="1000" spc="-1" strike="noStrike">
                <a:solidFill>
                  <a:srgbClr val="000000"/>
                </a:solidFill>
                <a:latin typeface="Arial"/>
              </a:rPr>
              <a:t>	</a:t>
            </a:r>
            <a:r>
              <a:rPr b="1" lang="es-AR" sz="1000" spc="-1" strike="noStrike">
                <a:solidFill>
                  <a:srgbClr val="000000"/>
                </a:solidFill>
                <a:latin typeface="Arial"/>
              </a:rPr>
              <a:t>Tire; </a:t>
            </a:r>
            <a:r>
              <a:rPr b="0" lang="es-AR" sz="1000" spc="-1" strike="noStrike">
                <a:solidFill>
                  <a:srgbClr val="000000"/>
                </a:solidFill>
                <a:latin typeface="Arial"/>
              </a:rPr>
              <a:t>esto se aplica a propagandas, cosas irrelevantes, etc. Sea firme. No amontone cosas a menos que esté segura que utilizará el material dentro del siguiente mes. Para entonces el producto habrá sido superado y habrá aumentado el precio.</a:t>
            </a:r>
            <a:r>
              <a:rPr b="0" lang="es-ES" sz="1000" spc="-1" strike="noStrike">
                <a:solidFill>
                  <a:srgbClr val="000000"/>
                </a:solidFill>
                <a:latin typeface="Arial"/>
              </a:rPr>
              <a:t>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62080" y="679320"/>
            <a:ext cx="4533840" cy="3400560"/>
          </a:xfrm>
          <a:prstGeom prst="rect">
            <a:avLst/>
          </a:prstGeom>
          <a:ln w="0">
            <a:noFill/>
          </a:ln>
        </p:spPr>
      </p:sp>
      <p:sp>
        <p:nvSpPr>
          <p:cNvPr id="86" name="PlaceHolder 2"/>
          <p:cNvSpPr>
            <a:spLocks noGrp="1"/>
          </p:cNvSpPr>
          <p:nvPr>
            <p:ph type="body"/>
          </p:nvPr>
        </p:nvSpPr>
        <p:spPr>
          <a:xfrm>
            <a:off x="685800" y="4308120"/>
            <a:ext cx="5486400" cy="4079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Nunca revise un papel más de dos veces.</a:t>
            </a:r>
            <a:r>
              <a:rPr b="0" lang="es-AR" sz="1200" spc="-1" strike="noStrike">
                <a:solidFill>
                  <a:srgbClr val="000000"/>
                </a:solidFill>
                <a:latin typeface="Arial"/>
              </a:rPr>
              <a:t> </a:t>
            </a:r>
            <a:r>
              <a:rPr b="1" lang="es-AR" sz="1200" spc="-1" strike="noStrike">
                <a:solidFill>
                  <a:srgbClr val="000000"/>
                </a:solidFill>
                <a:latin typeface="Arial"/>
              </a:rPr>
              <a:t>(RP-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La meta es revisar cada papel un máximo de dos veces; una vez al clasificarlo y la segunda vez al resolverl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Deshágase de papel innecesar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Saque su nombre de listas de correo que le proveen basur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ancele suscripciones a boletines informativos, catálogos, que no utiliza, o que no le sirven en la realid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Asigne un tiempo para trabajar cada día con los pape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Cree el hábito de procesar el papel, aunque requiera disciplina; al comienzo o  al fin del día, dedique al menos 30 minutos. Le dará un sentimiento de realiza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200" spc="-1" strike="noStrike">
                <a:solidFill>
                  <a:srgbClr val="000000"/>
                </a:solidFill>
                <a:latin typeface="Arial"/>
              </a:rPr>
              <a:t>Enfóquese en su sección de “acció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Priorice su li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Explore opciones para ahorrar tiempo; formularios, hojas con saludos, respuestas escritas a ma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tilice el teléfono; es más rápido y más bara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Utilice el correo electrónico; es lo más conveniente para muchas personas que están en la rama administrat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000000"/>
                </a:solidFill>
                <a:latin typeface="Arial"/>
              </a:rPr>
              <a:t>Haga notas marginales para ayudarse al dar las respuestas</a:t>
            </a:r>
            <a:r>
              <a:rPr b="0" lang="es-E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C4B30-D55B-4553-9C30-4C662A94F9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03E04C-4179-4723-9268-A495D8404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D7FACD-3478-437C-A004-604004933A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3CF95E-766A-4CD6-B2A6-3FBAFB6B25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C1AA7-5E53-4758-ADAD-A3FB10C7A0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7FEB66-ABFD-4CF1-B70E-77EC4DB2C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EAC8BD-A6D4-4E82-AF62-F89D665F1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CF3993-F176-4F3C-B0A6-8AC208D659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1768B-B196-420F-B9E4-007599B88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655940-C656-4913-8C94-E87DD9077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E585A2-4E60-467F-A007-B32F6EA29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550408-EBF7-49E7-B4CD-35D7A3CC06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CC576-C38F-47BE-A933-7D6DDD76ED7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762120" y="3641760"/>
            <a:ext cx="647676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Por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Daphne Jean Thomas &amp; Tamyra Hors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Curso de certificación de liderazgo</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Nivel 2</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Ministerio de la muje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eorgia"/>
              </a:rPr>
              <a:t>Asociación Gener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1447560" y="685440"/>
            <a:ext cx="69339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66"/>
                </a:solidFill>
                <a:latin typeface="FZ HAND 14 EX"/>
              </a:rPr>
              <a:t>Administración de Reuniones</a:t>
            </a:r>
            <a:r>
              <a:rPr b="0" lang="es-ES" sz="3600" spc="-1" strike="noStrike">
                <a:solidFill>
                  <a:srgbClr val="ffff66"/>
                </a:solidFill>
                <a:latin typeface="FZ HAND 14 EX"/>
              </a:rPr>
              <a:t> </a:t>
            </a:r>
            <a:endParaRPr b="0" lang="en-US" sz="3600" spc="-1" strike="noStrike">
              <a:solidFill>
                <a:srgbClr val="ffffff"/>
              </a:solidFill>
              <a:latin typeface="Arial"/>
            </a:endParaRPr>
          </a:p>
        </p:txBody>
      </p:sp>
      <p:sp>
        <p:nvSpPr>
          <p:cNvPr id="64" name=""/>
          <p:cNvSpPr/>
          <p:nvPr/>
        </p:nvSpPr>
        <p:spPr>
          <a:xfrm>
            <a:off x="609480" y="2134440"/>
            <a:ext cx="8534520" cy="26067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Primero, ore acerca de la agenda.</a:t>
            </a:r>
            <a:endParaRPr b="0" lang="en-US" sz="33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Priorice su agenda. </a:t>
            </a:r>
            <a:endParaRPr b="0" lang="en-US" sz="33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Recuerde su misión y propósito. </a:t>
            </a:r>
            <a:endParaRPr b="0" lang="en-US" sz="33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Distribuya su agenda unos pocos</a:t>
            </a:r>
            <a:endParaRPr b="0" lang="en-US" sz="33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300" spc="-1" strike="noStrike">
                <a:solidFill>
                  <a:srgbClr val="ffff66"/>
                </a:solidFill>
                <a:latin typeface="Arial Unicode MS"/>
              </a:rPr>
              <a:t> </a:t>
            </a:r>
            <a:r>
              <a:rPr b="0" i="1" lang="es-ES" sz="3300" spc="-1" strike="noStrike">
                <a:solidFill>
                  <a:srgbClr val="ffff66"/>
                </a:solidFill>
                <a:latin typeface="Arial Unicode MS"/>
              </a:rPr>
              <a:t>días antes de la reunión.</a:t>
            </a: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Permita que otros contribuyan a su agenda. </a:t>
            </a:r>
            <a:endParaRPr b="0" lang="en-US" sz="3200" spc="-1" strike="noStrike">
              <a:solidFill>
                <a:srgbClr val="ffffff"/>
              </a:solidFill>
              <a:latin typeface="Arial"/>
            </a:endParaRPr>
          </a:p>
          <a:p>
            <a:pPr marL="343080" indent="-343080">
              <a:lnSpc>
                <a:spcPct val="10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Comience y termine la reunión a tiempo.</a:t>
            </a:r>
            <a:endParaRPr b="0" lang="en-US" sz="3200" spc="-1" strike="noStrike">
              <a:solidFill>
                <a:srgbClr val="ffffff"/>
              </a:solidFill>
              <a:latin typeface="Arial"/>
            </a:endParaRPr>
          </a:p>
          <a:p>
            <a:pPr marL="343080" indent="-343080">
              <a:lnSpc>
                <a:spcPct val="10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Establezca límites de tiempo para </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las discusiones.</a:t>
            </a:r>
            <a:endParaRPr b="0" lang="en-US" sz="3200" spc="-1" strike="noStrike">
              <a:solidFill>
                <a:srgbClr val="ffffff"/>
              </a:solidFill>
              <a:latin typeface="Arial"/>
            </a:endParaRPr>
          </a:p>
          <a:p>
            <a:pPr marL="343080" indent="-343080">
              <a:lnSpc>
                <a:spcPct val="10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Manténgase en la agenda.</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66"/>
                </a:solidFill>
                <a:latin typeface="FZ HAND 14 EX"/>
              </a:rPr>
              <a:t>Agenda modelo</a:t>
            </a:r>
            <a:endParaRPr b="0" lang="en-US" sz="4400" spc="-1" strike="noStrike">
              <a:solidFill>
                <a:srgbClr val="ffffff"/>
              </a:solidFill>
              <a:latin typeface="Arial"/>
            </a:endParaRPr>
          </a:p>
        </p:txBody>
      </p:sp>
      <p:graphicFrame>
        <p:nvGraphicFramePr>
          <p:cNvPr id="67" name=""/>
          <p:cNvGraphicFramePr/>
          <p:nvPr/>
        </p:nvGraphicFramePr>
        <p:xfrm>
          <a:off x="457200" y="1752480"/>
          <a:ext cx="8229600" cy="3246480"/>
        </p:xfrm>
        <a:graphic>
          <a:graphicData uri="http://schemas.openxmlformats.org/drawingml/2006/table">
            <a:tbl>
              <a:tblPr/>
              <a:tblGrid>
                <a:gridCol w="2038320"/>
                <a:gridCol w="2189160"/>
                <a:gridCol w="2122560"/>
                <a:gridCol w="1879560"/>
              </a:tblGrid>
              <a:tr h="834120">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Tem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10000"/>
                      </a:srgbClr>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Persona</a:t>
                      </a:r>
                      <a:endParaRPr b="0" lang="en-US" sz="2200" spc="-1" strike="noStrike">
                        <a:solidFill>
                          <a:srgbClr val="000000"/>
                        </a:solidFill>
                        <a:latin typeface="Arial"/>
                      </a:endParaRPr>
                    </a:p>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Responsabl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10000"/>
                      </a:srgbClr>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Objetiv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10000"/>
                      </a:srgbClr>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66"/>
                          </a:solidFill>
                          <a:latin typeface="Century Gothic"/>
                        </a:rPr>
                        <a:t>Tiemp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alpha val="10000"/>
                      </a:srgbClr>
                    </a:solidFill>
                  </a:tcPr>
                </a:tc>
              </a:tr>
              <a:tr h="83592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1. Aprobar agend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Carl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Decis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3 minuto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r>
              <a:tr h="70308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2. Follet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Dian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Informac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5 minuto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r>
              <a:tr h="87336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3. Éxito de la func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Jan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Celebrac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66"/>
                          </a:solidFill>
                          <a:latin typeface="Century Gothic"/>
                        </a:rPr>
                        <a:t>3 minuto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39ac1"/>
                        </a:gs>
                      </a:gsLst>
                      <a:path path="rect">
                        <a:fillToRect l="50000" t="50000" r="50000" b="50000"/>
                      </a:path>
                    </a:gra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752120" y="274320"/>
            <a:ext cx="7239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FZ HAND 14 EX"/>
              </a:rPr>
              <a:t>Modelo de hoja de “acción”</a:t>
            </a:r>
            <a:endParaRPr b="0" lang="en-US" sz="3600" spc="-1" strike="noStrike">
              <a:solidFill>
                <a:srgbClr val="ffffff"/>
              </a:solidFill>
              <a:latin typeface="Arial"/>
            </a:endParaRPr>
          </a:p>
        </p:txBody>
      </p:sp>
      <p:graphicFrame>
        <p:nvGraphicFramePr>
          <p:cNvPr id="69" name=""/>
          <p:cNvGraphicFramePr/>
          <p:nvPr/>
        </p:nvGraphicFramePr>
        <p:xfrm>
          <a:off x="380880" y="1600200"/>
          <a:ext cx="8382240" cy="4782960"/>
        </p:xfrm>
        <a:graphic>
          <a:graphicData uri="http://schemas.openxmlformats.org/drawingml/2006/table">
            <a:tbl>
              <a:tblPr/>
              <a:tblGrid>
                <a:gridCol w="1779840"/>
                <a:gridCol w="1268280"/>
                <a:gridCol w="3352680"/>
                <a:gridCol w="1981440"/>
              </a:tblGrid>
              <a:tr h="834120">
                <a:tc>
                  <a:txBody>
                    <a:bodyPr lIns="90000" rIns="90000" tIns="46800" bIns="46800" anchor="t">
                      <a:noAutofit/>
                    </a:bodyPr>
                    <a:p>
                      <a:pPr marL="58680" indent="-586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Punto de agenda 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Tem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Acción y Marco de  tiemp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Persona</a:t>
                      </a:r>
                      <a:endParaRPr b="0" lang="en-US" sz="2200" spc="-1" strike="noStrike">
                        <a:solidFill>
                          <a:srgbClr val="000000"/>
                        </a:solidFill>
                        <a:latin typeface="Arial"/>
                      </a:endParaRPr>
                    </a:p>
                    <a:p>
                      <a:pPr marL="343080" indent="-343080"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0000"/>
                          </a:solidFill>
                          <a:latin typeface="Century Gothic"/>
                        </a:rPr>
                        <a:t>Responsable</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43460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Folletos</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Aprobado imprimir 1000 el 6 de abril para el retiro de juni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Dian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r>
              <a:tr h="143460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Retiro</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Enviar a las iglesias las  solicitudes para el retiro, no más tarde que el 1 de abril</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Chela</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r>
              <a:tr h="1099440">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6</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Próxima reunión</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Acordado reunirse el 28 de marzo a las 15: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c>
                  <a:txBody>
                    <a:bodyPr lIns="90000" rIns="90000" tIns="46800" bIns="46800" anchor="t">
                      <a:noAutofit/>
                    </a:bodyPr>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Century Gothic"/>
                        </a:rPr>
                        <a:t>Janet</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gradFill rotWithShape="0">
                      <a:gsLst>
                        <a:gs pos="0">
                          <a:srgbClr val="99ccff"/>
                        </a:gs>
                        <a:gs pos="100000">
                          <a:srgbClr val="78a0c9"/>
                        </a:gs>
                      </a:gsLst>
                      <a:path path="rect">
                        <a:fillToRect l="50000" t="50000" r="50000" b="50000"/>
                      </a:path>
                    </a:gra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980720" y="274320"/>
            <a:ext cx="72392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66"/>
                </a:solidFill>
                <a:latin typeface="FZ HAND 14 EX"/>
              </a:rPr>
              <a:t>Control de “usted misma”</a:t>
            </a:r>
            <a:endParaRPr b="0" lang="en-US" sz="4000" spc="-1" strike="noStrike">
              <a:solidFill>
                <a:srgbClr val="ffffff"/>
              </a:solidFill>
              <a:latin typeface="Arial"/>
            </a:endParaRPr>
          </a:p>
        </p:txBody>
      </p:sp>
      <p:sp>
        <p:nvSpPr>
          <p:cNvPr id="71" name="PlaceHolder 2"/>
          <p:cNvSpPr>
            <a:spLocks noGrp="1"/>
          </p:cNvSpPr>
          <p:nvPr>
            <p:ph/>
          </p:nvPr>
        </p:nvSpPr>
        <p:spPr>
          <a:xfrm>
            <a:off x="533520" y="2286000"/>
            <a:ext cx="8229600" cy="3276720"/>
          </a:xfrm>
          <a:prstGeom prst="rect">
            <a:avLst/>
          </a:prstGeom>
          <a:noFill/>
          <a:ln w="0">
            <a:noFill/>
          </a:ln>
        </p:spPr>
        <p:txBody>
          <a:bodyPr lIns="90000" rIns="90000" tIns="46800" bIns="46800" anchor="t">
            <a:normAutofit/>
          </a:bodyPr>
          <a:p>
            <a:pPr marL="343080" indent="-343080">
              <a:lnSpc>
                <a:spcPct val="100000"/>
              </a:lnSpc>
              <a:spcBef>
                <a:spcPts val="901"/>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Tener buena salud es importante. </a:t>
            </a:r>
            <a:endParaRPr b="0" lang="en-US" sz="3600" spc="-1" strike="noStrike">
              <a:solidFill>
                <a:srgbClr val="ffffff"/>
              </a:solidFill>
              <a:latin typeface="Arial"/>
            </a:endParaRPr>
          </a:p>
          <a:p>
            <a:pPr marL="343080" indent="-343080">
              <a:lnSpc>
                <a:spcPct val="100000"/>
              </a:lnSpc>
              <a:spcBef>
                <a:spcPts val="901"/>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Dedique tiempo a sus amistades.</a:t>
            </a:r>
            <a:endParaRPr b="0" lang="en-US" sz="3600" spc="-1" strike="noStrike">
              <a:solidFill>
                <a:srgbClr val="ffffff"/>
              </a:solidFill>
              <a:latin typeface="Arial"/>
            </a:endParaRPr>
          </a:p>
          <a:p>
            <a:pPr marL="343080" indent="-343080">
              <a:lnSpc>
                <a:spcPct val="100000"/>
              </a:lnSpc>
              <a:spcBef>
                <a:spcPts val="901"/>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Dedique tiempo para Dio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2133360"/>
            <a:ext cx="8229600" cy="368748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Permítele a Dios ser el administrador</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de tu tiempo. Entrégale </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tus planes, horarios, </a:t>
            </a:r>
            <a:endParaRPr b="0" lang="en-US" sz="3600" spc="-1" strike="noStrike">
              <a:solidFill>
                <a:srgbClr val="ffffff"/>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600" spc="-1" strike="noStrike">
                <a:solidFill>
                  <a:srgbClr val="ffff66"/>
                </a:solidFill>
                <a:latin typeface="Arial Unicode MS"/>
              </a:rPr>
              <a:t>agendas y programa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15235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66"/>
                </a:solidFill>
                <a:latin typeface="FZ HAND 14 EX"/>
              </a:rPr>
              <a:t>¿Cómo Aprendemos a manejar Nuestro Tiempo?</a:t>
            </a:r>
            <a:endParaRPr b="0" lang="en-US" sz="4400" spc="-1" strike="noStrike">
              <a:solidFill>
                <a:srgbClr val="ffffff"/>
              </a:solidFill>
              <a:latin typeface="Arial"/>
            </a:endParaRPr>
          </a:p>
        </p:txBody>
      </p:sp>
      <p:sp>
        <p:nvSpPr>
          <p:cNvPr id="50" name=""/>
          <p:cNvSpPr/>
          <p:nvPr/>
        </p:nvSpPr>
        <p:spPr>
          <a:xfrm>
            <a:off x="645480" y="3430440"/>
            <a:ext cx="5185440" cy="2013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Unicode MS"/>
              </a:rPr>
              <a:t>Primero, ore</a:t>
            </a:r>
            <a:endParaRPr b="0" lang="en-US" sz="2800" spc="-1" strike="noStrike">
              <a:solidFill>
                <a:srgbClr val="000000"/>
              </a:solidFill>
              <a:latin typeface="Arial"/>
            </a:endParaRPr>
          </a:p>
          <a:p>
            <a:pPr>
              <a:lnSpc>
                <a:spcPct val="15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Unicode MS"/>
              </a:rPr>
              <a:t>Presente su horario a Dios</a:t>
            </a:r>
            <a:endParaRPr b="0" lang="en-US" sz="2800" spc="-1" strike="noStrike">
              <a:solidFill>
                <a:srgbClr val="000000"/>
              </a:solidFill>
              <a:latin typeface="Arial"/>
            </a:endParaRPr>
          </a:p>
          <a:p>
            <a:pPr>
              <a:lnSpc>
                <a:spcPct val="15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Unicode MS"/>
              </a:rPr>
              <a:t>Establezca prioridades y met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p:nvPr>
        </p:nvSpPr>
        <p:spPr>
          <a:xfrm>
            <a:off x="457200" y="2666520"/>
            <a:ext cx="8229600" cy="3459240"/>
          </a:xfrm>
          <a:prstGeom prst="rect">
            <a:avLst/>
          </a:prstGeom>
          <a:noFill/>
          <a:ln w="0">
            <a:noFill/>
          </a:ln>
        </p:spPr>
        <p:txBody>
          <a:bodyPr lIns="90000" rIns="90000" tIns="46800" bIns="46800" anchor="t">
            <a:normAutofit/>
          </a:bodyPr>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Elimine actividades innecesarias e impropias.</a:t>
            </a:r>
            <a:endParaRPr b="0" lang="en-US" sz="3200" spc="-1" strike="noStrike">
              <a:solidFill>
                <a:srgbClr val="ffffff"/>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Delegue lo máximo posible.</a:t>
            </a:r>
            <a:endParaRPr b="0" lang="en-US" sz="3200" spc="-1" strike="noStrike">
              <a:solidFill>
                <a:srgbClr val="ffffff"/>
              </a:solidFill>
              <a:latin typeface="Arial"/>
            </a:endParaRPr>
          </a:p>
          <a:p>
            <a:pPr marL="343080" indent="-343080">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Planifique y organice el uso de</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 </a:t>
            </a:r>
            <a:r>
              <a:rPr b="0" i="1" lang="es-ES" sz="3200" spc="-1" strike="noStrike">
                <a:solidFill>
                  <a:srgbClr val="ffff66"/>
                </a:solidFill>
                <a:latin typeface="Arial"/>
              </a:rPr>
              <a:t>su tiempo</a:t>
            </a:r>
            <a:endParaRPr b="0" lang="en-US" sz="3200" spc="-1" strike="noStrike">
              <a:solidFill>
                <a:srgbClr val="ffffff"/>
              </a:solidFill>
              <a:latin typeface="Arial"/>
            </a:endParaRPr>
          </a:p>
        </p:txBody>
      </p:sp>
      <p:sp>
        <p:nvSpPr>
          <p:cNvPr id="52" name="PlaceHolder 2"/>
          <p:cNvSpPr>
            <a:spLocks noGrp="1"/>
          </p:cNvSpPr>
          <p:nvPr>
            <p:ph type="title"/>
          </p:nvPr>
        </p:nvSpPr>
        <p:spPr>
          <a:xfrm>
            <a:off x="685800" y="137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66"/>
                </a:solidFill>
                <a:latin typeface="FZ HAND 14 EX"/>
              </a:rPr>
              <a:t>¿Cómo aprendemos a manejar el tiempo?</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892080"/>
            <a:ext cx="7772400" cy="1470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66"/>
                </a:solidFill>
                <a:latin typeface="FZ HAND 14 EX"/>
              </a:rPr>
              <a:t>Planificación Diaria</a:t>
            </a:r>
            <a:r>
              <a:rPr b="0" lang="es-ES" sz="4800" spc="-1" strike="noStrike">
                <a:solidFill>
                  <a:srgbClr val="ffff66"/>
                </a:solidFill>
                <a:latin typeface="FZ HAND 14 EX"/>
              </a:rPr>
              <a:t> </a:t>
            </a:r>
            <a:endParaRPr b="0" lang="en-US" sz="4800" spc="-1" strike="noStrike">
              <a:solidFill>
                <a:srgbClr val="ffffff"/>
              </a:solidFill>
              <a:latin typeface="Arial"/>
            </a:endParaRPr>
          </a:p>
        </p:txBody>
      </p:sp>
      <p:sp>
        <p:nvSpPr>
          <p:cNvPr id="54" name=""/>
          <p:cNvSpPr/>
          <p:nvPr/>
        </p:nvSpPr>
        <p:spPr>
          <a:xfrm>
            <a:off x="609480" y="2750400"/>
            <a:ext cx="7732800" cy="21290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66"/>
                </a:solidFill>
                <a:latin typeface="Arial Unicode MS"/>
              </a:rPr>
              <a:t>Ore por su horario cada día</a:t>
            </a:r>
            <a:endParaRPr b="0" lang="en-US" sz="26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66"/>
                </a:solidFill>
                <a:latin typeface="Arial Unicode MS"/>
              </a:rPr>
              <a:t>Además de la lista de cosas para hacer, </a:t>
            </a:r>
            <a:endParaRPr b="0" lang="en-US" sz="26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66"/>
                </a:solidFill>
                <a:latin typeface="Arial Unicode MS"/>
              </a:rPr>
              <a:t>otras listas pueden ser de mucha ayuda.</a:t>
            </a:r>
            <a:endParaRPr b="0" lang="en-US" sz="26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66"/>
                </a:solidFill>
                <a:latin typeface="Arial Unicode MS"/>
              </a:rPr>
              <a:t>Cumpla con su cronograma</a:t>
            </a:r>
            <a:endParaRPr b="0" lang="en-US" sz="2600" spc="-1" strike="noStrike">
              <a:solidFill>
                <a:srgbClr val="000000"/>
              </a:solidFill>
              <a:latin typeface="Arial"/>
            </a:endParaRPr>
          </a:p>
          <a:p>
            <a:pPr>
              <a:lnSpc>
                <a:spcPct val="100000"/>
              </a:lnSpc>
              <a:buClr>
                <a:srgbClr val="ffff66"/>
              </a:buClr>
              <a:buFont typeface="Arial Unicode MS"/>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228600" y="14940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Su planificador diario: Una herramienta para administrar el tiempo</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a:rPr>
              <a:t>	</a:t>
            </a:r>
            <a:r>
              <a:rPr b="0" i="1" lang="es-ES" sz="3200" spc="-1" strike="noStrike">
                <a:solidFill>
                  <a:srgbClr val="ff3300"/>
                </a:solidFill>
                <a:latin typeface="Arial"/>
              </a:rPr>
              <a:t>–</a:t>
            </a:r>
            <a:r>
              <a:rPr b="0" i="1" lang="es-ES" sz="3200" spc="-1" strike="noStrike">
                <a:solidFill>
                  <a:srgbClr val="ffff66"/>
                </a:solidFill>
                <a:latin typeface="Arial"/>
              </a:rPr>
              <a:t> </a:t>
            </a:r>
            <a:r>
              <a:rPr b="0" i="1" lang="es-ES" sz="2800" spc="-1" strike="noStrike">
                <a:solidFill>
                  <a:srgbClr val="ffff66"/>
                </a:solidFill>
                <a:latin typeface="Arial"/>
              </a:rPr>
              <a:t>Escoja un planificador diario que se adapte mejor a su estil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	</a:t>
            </a:r>
            <a:r>
              <a:rPr b="0" i="1" lang="es-ES" sz="2800" spc="-1" strike="noStrike">
                <a:solidFill>
                  <a:srgbClr val="ff3300"/>
                </a:solidFill>
                <a:latin typeface="Arial"/>
              </a:rPr>
              <a:t>–</a:t>
            </a:r>
            <a:r>
              <a:rPr b="0" i="1" lang="es-ES" sz="2800" spc="-1" strike="noStrike">
                <a:solidFill>
                  <a:srgbClr val="ffff66"/>
                </a:solidFill>
                <a:latin typeface="Arial"/>
              </a:rPr>
              <a:t> </a:t>
            </a:r>
            <a:r>
              <a:rPr b="0" i="1" lang="es-ES" sz="2800" spc="-1" strike="noStrike">
                <a:solidFill>
                  <a:srgbClr val="ffff66"/>
                </a:solidFill>
                <a:latin typeface="Arial"/>
              </a:rPr>
              <a:t>Un diseño de páginas para registro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diario.</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	</a:t>
            </a:r>
            <a:r>
              <a:rPr b="0" i="1" lang="es-ES" sz="2800" spc="-1" strike="noStrike">
                <a:solidFill>
                  <a:srgbClr val="ff3300"/>
                </a:solidFill>
                <a:latin typeface="Arial"/>
              </a:rPr>
              <a:t>–</a:t>
            </a:r>
            <a:r>
              <a:rPr b="0" i="1" lang="es-ES" sz="2800" spc="-1" strike="noStrike">
                <a:solidFill>
                  <a:srgbClr val="ffff66"/>
                </a:solidFill>
                <a:latin typeface="Arial"/>
              </a:rPr>
              <a:t> </a:t>
            </a:r>
            <a:r>
              <a:rPr b="0" i="1" lang="es-ES" sz="2800" spc="-1" strike="noStrike">
                <a:solidFill>
                  <a:srgbClr val="ffff66"/>
                </a:solidFill>
                <a:latin typeface="Arial"/>
              </a:rPr>
              <a:t>Considere la posibilidad de utiliza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Uno con páginas sueltas para poder </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a:rPr>
              <a:t>añadir o quitar página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6" name=""/>
          <p:cNvSpPr/>
          <p:nvPr/>
        </p:nvSpPr>
        <p:spPr>
          <a:xfrm>
            <a:off x="1447920" y="2286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66"/>
                </a:solidFill>
                <a:latin typeface="FZ HAND 14 EX"/>
              </a:rPr>
              <a:t>Planificación Diaria</a:t>
            </a:r>
            <a:r>
              <a:rPr b="0" lang="es-ES" sz="4800" spc="-1" strike="noStrike">
                <a:solidFill>
                  <a:srgbClr val="ffff66"/>
                </a:solidFill>
                <a:latin typeface="FZ HAND 14 EX"/>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33520" y="1265400"/>
            <a:ext cx="8229600" cy="4068720"/>
          </a:xfrm>
          <a:prstGeom prst="rect">
            <a:avLst/>
          </a:prstGeom>
          <a:noFill/>
          <a:ln w="0">
            <a:noFill/>
          </a:ln>
        </p:spPr>
        <p:txBody>
          <a:bodyPr lIns="90000" rIns="90000" tIns="46800" bIns="46800" anchor="t">
            <a:normAutofit fontScale="87000"/>
          </a:bodyPr>
          <a:p>
            <a:pPr marL="2984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66"/>
                </a:solidFill>
                <a:latin typeface="Arial Unicode MS"/>
              </a:rPr>
              <a:t>“</a:t>
            </a:r>
            <a:r>
              <a:rPr b="0" i="1" lang="es-ES" sz="2800" spc="-1" strike="noStrike">
                <a:solidFill>
                  <a:srgbClr val="ffff66"/>
                </a:solidFill>
                <a:latin typeface="Arial Unicode MS"/>
              </a:rPr>
              <a:t>Una agenda bien llevada, dada la naturaleza de la vida y el tiempo, no es otra cosa, sino sistematización y prolijidad. Llena de planes tentativos, planes revisados, tachaduras, ideas garrapateadas y asuntos recordados repentinamente. El único sistema de agenda digno de tener, posee simplicidad y flexibilidad; aún entonces, no será más que una herramienta para la administración del tiempo. Más importante por lejos es la actitud realista para planificar...”</a:t>
            </a:r>
            <a:endParaRPr b="0" lang="en-US" sz="2800" spc="-1" strike="noStrike">
              <a:solidFill>
                <a:srgbClr val="ffffff"/>
              </a:solidFill>
              <a:latin typeface="Arial"/>
            </a:endParaRPr>
          </a:p>
          <a:p>
            <a:pPr marL="29844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66"/>
                </a:solidFill>
                <a:latin typeface="Arial Unicode MS"/>
              </a:rPr>
              <a:t>	</a:t>
            </a:r>
            <a:r>
              <a:rPr b="0" i="1" lang="en-US" sz="2800" spc="-1" strike="noStrike">
                <a:solidFill>
                  <a:srgbClr val="ffff66"/>
                </a:solidFill>
                <a:latin typeface="Arial Unicode MS"/>
              </a:rPr>
              <a:t>	</a:t>
            </a:r>
            <a:r>
              <a:rPr b="0" i="1" lang="en-US" sz="2000" spc="-1" strike="noStrike">
                <a:solidFill>
                  <a:srgbClr val="ffff66"/>
                </a:solidFill>
                <a:latin typeface="Arial Unicode MS"/>
              </a:rPr>
              <a:t>Getting Things Done,</a:t>
            </a:r>
            <a:r>
              <a:rPr b="0" lang="en-US" sz="2000" spc="-1" strike="noStrike">
                <a:solidFill>
                  <a:srgbClr val="ffff66"/>
                </a:solidFill>
                <a:latin typeface="Arial Unicode MS"/>
              </a:rPr>
              <a:t> Roger Blac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828440" y="274320"/>
            <a:ext cx="71629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66"/>
                </a:solidFill>
                <a:latin typeface="FZ HAND 14 EX"/>
              </a:rPr>
              <a:t>Administración del papel</a:t>
            </a:r>
            <a:endParaRPr b="0" lang="en-US" sz="4000" spc="-1" strike="noStrike">
              <a:solidFill>
                <a:srgbClr val="ffffff"/>
              </a:solidFill>
              <a:latin typeface="Arial"/>
            </a:endParaRPr>
          </a:p>
        </p:txBody>
      </p:sp>
      <p:sp>
        <p:nvSpPr>
          <p:cNvPr id="59" name="PlaceHolder 2"/>
          <p:cNvSpPr>
            <a:spLocks noGrp="1"/>
          </p:cNvSpPr>
          <p:nvPr>
            <p:ph/>
          </p:nvPr>
        </p:nvSpPr>
        <p:spPr>
          <a:xfrm>
            <a:off x="228600" y="1646280"/>
            <a:ext cx="8153280" cy="4525920"/>
          </a:xfrm>
          <a:prstGeom prst="rect">
            <a:avLst/>
          </a:prstGeom>
          <a:noFill/>
          <a:ln w="0">
            <a:noFill/>
          </a:ln>
        </p:spPr>
        <p:txBody>
          <a:bodyPr lIns="90000" rIns="90000" tIns="46800" bIns="46800" anchor="t">
            <a:normAutofit fontScale="97000"/>
          </a:bodyPr>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Georgia"/>
              </a:rPr>
              <a:t>“</a:t>
            </a:r>
            <a:r>
              <a:rPr b="0" i="1" lang="es-ES" sz="2400" spc="-1" strike="noStrike">
                <a:solidFill>
                  <a:srgbClr val="ffff66"/>
                </a:solidFill>
                <a:latin typeface="Georgia"/>
              </a:rPr>
              <a:t>El manejo equivocado del papel puede inhabilitarla para funcionar efectivamente...La causa real de una crisis del trabajo con papeles tiene que ver con la toma de decisiones; tomar el mismo papel cinco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veces y dejarlo otra vez porque no puede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decidir que hacer con él. Es curioso,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pero verdadero, que muchos ejecutivos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que tienen experiencia en tomar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decisiones, se sienten bloqueados </a:t>
            </a:r>
            <a:endParaRPr b="0" lang="en-US" sz="2400" spc="-1" strike="noStrike">
              <a:solidFill>
                <a:srgbClr val="ffffff"/>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66"/>
                </a:solidFill>
                <a:latin typeface="Georgia"/>
              </a:rPr>
              <a:t>por una simple hoja de papel.</a:t>
            </a:r>
            <a:r>
              <a:rPr b="0" i="1" lang="en-US" sz="2400" spc="-1" strike="noStrike">
                <a:solidFill>
                  <a:srgbClr val="ffff66"/>
                </a:solidFill>
                <a:latin typeface="Georgia"/>
              </a:rPr>
              <a:t>” </a:t>
            </a:r>
            <a:endParaRPr b="0" lang="en-US" sz="2400" spc="-1" strike="noStrike">
              <a:solidFill>
                <a:srgbClr val="ffffff"/>
              </a:solidFill>
              <a:latin typeface="Arial"/>
            </a:endParaRPr>
          </a:p>
          <a:p>
            <a:pPr marL="332640" indent="0" algn="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Georgia"/>
              </a:rPr>
              <a:t>	</a:t>
            </a:r>
            <a:r>
              <a:rPr b="0" i="1" lang="en-US" sz="1800" spc="-1" strike="noStrike">
                <a:solidFill>
                  <a:srgbClr val="ffff66"/>
                </a:solidFill>
                <a:latin typeface="Georgia"/>
              </a:rPr>
              <a:t>The Organized Executive</a:t>
            </a:r>
            <a:r>
              <a:rPr b="0" lang="en-US" sz="1800" spc="-1" strike="noStrike">
                <a:solidFill>
                  <a:srgbClr val="ffff66"/>
                </a:solidFill>
                <a:latin typeface="Georgia"/>
              </a:rPr>
              <a:t>, Stephanie Winst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057040" y="533160"/>
            <a:ext cx="7086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FZ HAND 14 EX"/>
              </a:rPr>
              <a:t>Clasifique los papeles la primera vez que los tiene en sus manos.</a:t>
            </a:r>
            <a:endParaRPr b="0" lang="en-US" sz="3600" spc="-1" strike="noStrike">
              <a:solidFill>
                <a:srgbClr val="ffffff"/>
              </a:solidFill>
              <a:latin typeface="Arial"/>
            </a:endParaRPr>
          </a:p>
        </p:txBody>
      </p:sp>
      <p:sp>
        <p:nvSpPr>
          <p:cNvPr id="61" name=""/>
          <p:cNvSpPr/>
          <p:nvPr/>
        </p:nvSpPr>
        <p:spPr>
          <a:xfrm>
            <a:off x="1550880" y="2132280"/>
            <a:ext cx="3554640" cy="448092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Delegue</a:t>
            </a: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Lea</a:t>
            </a: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Actúe</a:t>
            </a: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Archive</a:t>
            </a: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3200" spc="-1" strike="noStrike">
                <a:solidFill>
                  <a:srgbClr val="ffffff"/>
                </a:solidFill>
                <a:latin typeface="Arial Unicode MS"/>
              </a:rPr>
              <a:t>	</a:t>
            </a:r>
            <a:r>
              <a:rPr b="0" i="1" lang="it-IT" sz="3200" spc="-1" strike="noStrike">
                <a:solidFill>
                  <a:srgbClr val="ffff66"/>
                </a:solidFill>
                <a:latin typeface="Arial Unicode MS"/>
              </a:rPr>
              <a:t>Tire</a:t>
            </a:r>
            <a:r>
              <a:rPr b="1" i="1" lang="en-US" sz="1800" spc="-1" strike="noStrike">
                <a:solidFill>
                  <a:srgbClr val="000000"/>
                </a:solidFill>
                <a:latin typeface="Arial Unicode MS"/>
              </a:rPr>
              <a:t>	</a:t>
            </a:r>
            <a:r>
              <a:rPr b="1" i="1" lang="en-US" sz="1800" spc="-1" strike="noStrike">
                <a:solidFill>
                  <a:srgbClr val="000000"/>
                </a:solidFill>
                <a:latin typeface="Arial Unicode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09480" y="1752480"/>
            <a:ext cx="8229600" cy="32004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Nunca revise un papel más de dos veces </a:t>
            </a:r>
            <a:endParaRPr b="0" lang="en-US" sz="3200" spc="-1" strike="noStrike">
              <a:solidFill>
                <a:srgbClr val="ffffff"/>
              </a:solidFill>
              <a:latin typeface="Arial"/>
            </a:endParaRPr>
          </a:p>
          <a:p>
            <a:pPr marL="343080" indent="-343080">
              <a:lnSpc>
                <a:spcPct val="9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Deshágase de papel innecesario</a:t>
            </a:r>
            <a:endParaRPr b="0" lang="en-US" sz="3200" spc="-1" strike="noStrike">
              <a:solidFill>
                <a:srgbClr val="ffffff"/>
              </a:solidFill>
              <a:latin typeface="Arial"/>
            </a:endParaRPr>
          </a:p>
          <a:p>
            <a:pPr marL="343080" indent="-343080">
              <a:lnSpc>
                <a:spcPct val="9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Asigne un tiempo para trabajar cada día con los papeles</a:t>
            </a:r>
            <a:endParaRPr b="0" lang="en-US" sz="3200" spc="-1" strike="noStrike">
              <a:solidFill>
                <a:srgbClr val="ffffff"/>
              </a:solidFill>
              <a:latin typeface="Arial"/>
            </a:endParaRPr>
          </a:p>
          <a:p>
            <a:pPr marL="343080" indent="-343080">
              <a:lnSpc>
                <a:spcPct val="90000"/>
              </a:lnSpc>
              <a:spcBef>
                <a:spcPts val="799"/>
              </a:spcBef>
              <a:buClr>
                <a:srgbClr val="ffff66"/>
              </a:buClr>
              <a:buFont typeface="Arial Unicode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Enfóquese en su sección de </a:t>
            </a: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66"/>
                </a:solidFill>
                <a:latin typeface="Arial Unicode MS"/>
              </a:rPr>
              <a:t>“</a:t>
            </a:r>
            <a:r>
              <a:rPr b="0" i="1" lang="es-ES" sz="3200" spc="-1" strike="noStrike">
                <a:solidFill>
                  <a:srgbClr val="ffff66"/>
                </a:solidFill>
                <a:latin typeface="Arial Unicode MS"/>
              </a:rPr>
              <a:t>acció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7T19:36:37Z</dcterms:created>
  <dc:creator>Gilda Almeida</dc:creator>
  <dc:description/>
  <dc:language>en-US</dc:language>
  <cp:lastModifiedBy>Nelida Leguizamon</cp:lastModifiedBy>
  <dcterms:modified xsi:type="dcterms:W3CDTF">2006-05-31T14:11:45Z</dcterms:modified>
  <cp:revision>28</cp:revision>
  <dc:subject/>
  <dc:title>How do we learn to Manage our Time? </dc:title>
</cp:coreProperties>
</file>